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2DB-47EA-4F71-ACC1-4F426024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E25-F0D9-4E5F-8E7D-0D97A3EB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931-AFE5-4340-A169-7686597B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985-D6A8-4ACA-BBC8-7CC0F99A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817-9D00-4704-A5E8-D326638B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4FF-37E4-4DBA-987A-8DE310F7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C96-EE2F-4711-A262-FCF801D8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750-9528-461D-B969-44EBCA25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61D-1828-4994-BD60-BB2872A6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1AA-B414-4EC4-9912-6E059E9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03D-FF2C-4572-AFD4-6323E2A0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64D-DD43-4C2D-9BBE-31FCDBA9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4029-0FE1-4FB8-99BA-C418D399106A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F0C9-4A3C-41A6-AC3E-F3855BAAD7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3"/>
          <p:cNvSpPr/>
          <p:nvPr/>
        </p:nvSpPr>
        <p:spPr>
          <a:xfrm>
            <a:off x="2239920" y="8412120"/>
            <a:ext cx="68580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日付プレースホルダ 1"/>
          <p:cNvSpPr/>
          <p:nvPr/>
        </p:nvSpPr>
        <p:spPr>
          <a:xfrm>
            <a:off x="514440" y="8737560"/>
            <a:ext cx="1428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3"/>
          <p:cNvSpPr/>
          <p:nvPr/>
        </p:nvSpPr>
        <p:spPr>
          <a:xfrm>
            <a:off x="0" y="1187280"/>
            <a:ext cx="6858000" cy="0"/>
          </a:xfrm>
          <a:prstGeom prst="line">
            <a:avLst/>
          </a:prstGeom>
          <a:ln w="19080">
            <a:solidFill>
              <a:srgbClr val="b4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89000" y="324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0" y="8748720"/>
            <a:ext cx="6858000" cy="0"/>
          </a:xfrm>
          <a:prstGeom prst="line">
            <a:avLst/>
          </a:prstGeom>
          <a:ln w="57240">
            <a:solidFill>
              <a:srgbClr val="8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スライド番号プレースホルダ 42"/>
          <p:cNvSpPr/>
          <p:nvPr/>
        </p:nvSpPr>
        <p:spPr>
          <a:xfrm>
            <a:off x="5229360" y="864072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35F9-FC8C-4A21-831D-05B2D7C268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フッター プレースホルダ 4"/>
          <p:cNvSpPr/>
          <p:nvPr/>
        </p:nvSpPr>
        <p:spPr>
          <a:xfrm>
            <a:off x="1917720" y="8737560"/>
            <a:ext cx="3527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004-2014 Syukuhaku Yoyaku Keiei  Kenkyujo Co.,Ltd All Right Rese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1"/>
          <p:cNvSpPr/>
          <p:nvPr/>
        </p:nvSpPr>
        <p:spPr>
          <a:xfrm>
            <a:off x="4938480" y="684360"/>
            <a:ext cx="12992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２０１４年　６月　２７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株式会社宿泊予約経営研究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直線矢印コネクタ 50"/>
          <p:cNvCxnSpPr/>
          <p:nvPr/>
        </p:nvCxnSpPr>
        <p:spPr>
          <a:xfrm>
            <a:off x="404640" y="2484000"/>
            <a:ext cx="583344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50" name="直線矢印コネクタ 51"/>
          <p:cNvCxnSpPr/>
          <p:nvPr/>
        </p:nvCxnSpPr>
        <p:spPr>
          <a:xfrm>
            <a:off x="404640" y="3901680"/>
            <a:ext cx="583344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51" name="テキスト ボックス 53"/>
          <p:cNvSpPr/>
          <p:nvPr/>
        </p:nvSpPr>
        <p:spPr>
          <a:xfrm>
            <a:off x="333360" y="7780320"/>
            <a:ext cx="6014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取材お申し込み・問合せ先　：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株式会社宿泊予約経営研究所　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日高（ひだか）・平川（ひらかわ）・森本（もりもと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ttp://www.yadoken.net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〒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0-812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神奈川県横浜市西区みなとみらい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-2-1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横浜ランドマークタワー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Ｔｅｌ　：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5-227-6505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Ｆａｘ　：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5-227-6507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@yadoken.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54"/>
          <p:cNvSpPr/>
          <p:nvPr/>
        </p:nvSpPr>
        <p:spPr>
          <a:xfrm>
            <a:off x="365040" y="1343160"/>
            <a:ext cx="6056280" cy="916920"/>
          </a:xfrm>
          <a:prstGeom prst="rect">
            <a:avLst/>
          </a:prstGeom>
          <a:solidFill>
            <a:srgbClr val="ffccff"/>
          </a:solidFill>
          <a:ln w="60480">
            <a:solidFill>
              <a:srgbClr val="ffcc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開催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変えよう日本の宿屋を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基調講演やワークショップに、全国から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名が参加！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"/>
          <p:cNvSpPr/>
          <p:nvPr/>
        </p:nvSpPr>
        <p:spPr>
          <a:xfrm>
            <a:off x="692280" y="17928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ＮＥＷＳ　ＲＥＬＥＡＳＥ　</a:t>
            </a:r>
            <a:r>
              <a:rPr b="0" lang="en-US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8"/>
          <p:cNvSpPr/>
          <p:nvPr/>
        </p:nvSpPr>
        <p:spPr>
          <a:xfrm>
            <a:off x="404640" y="4097160"/>
            <a:ext cx="60166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～第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回目となる宿屋業界を支援する新たなプロジェクト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今回のテーマは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ムーブメント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。宿屋に関わる人々が集まり、共に考え議論する事で、自身の宿を、そして、日本の宿屋を変えていく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ムーブメント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を起こしていきたいと開催された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経営コンサルタント・フリーパレット集客施設研究所代表 藤村 正宏氏の基調講演では参加者に、お客様に選んでもらえる価値の演出方法などの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気づき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の環境を与え、ワークショップでは、参加者同士が互いに集客のためのアイデア・意見を出し、情報交換をしたり、コミュニケーションをとりながら、宿屋に泊まる体験価値を見直し、お客様の宿屋に対する認識を変え、宿屋に注目が集まる仕組みを実践的に学ぶ場となりま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また、この１年間で売上を大きく伸ばされた施設様へ功績を称える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研アワード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では、ハートピア熱海（静岡県熱海市伊豆山）と、旅館 清少納言（三重県津市榊原町）が選出され、会場ではアワード施設以外にも大きく売上をアップさせた施設が行った、施策事例などが掲載された冊子も配布され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さらに懇親会でも宿泊施設同士に宿研スタッフも参加し、集客や経営に対しての悩みを打ち明け、一緒になって策を考えたり、意見・情報交換が積極的に行われ、最後まで終始、和やかながらも熱い時間となっ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会場の雰囲気は次ページにて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43"/>
          <p:cNvSpPr/>
          <p:nvPr/>
        </p:nvSpPr>
        <p:spPr>
          <a:xfrm>
            <a:off x="365040" y="2592360"/>
            <a:ext cx="6016680" cy="596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泊施設の総合プロデュースを手掛ける株式会社宿泊予約経営研究所（以降：宿研、本社：神奈川県横浜市、代表取締役社長：末吉　秀典）は、未来の「宿屋」経営と「宿屋業界」を盛り上げるべく、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変えよう日本の宿屋を！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をテーマに、第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回目となる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を開催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基調講演には、 「体験を売る＝エクスペリエンス・マーケティング」の提唱者である経営コンサルタント・フリーパレット集客施設研究所代表 藤村 正宏（ふじむら まさひろ）氏を迎えるなどし、宿泊施設の経営者やマネジメントリーダーの方々を中心に約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名が来場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：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ttp://www.yadoken.net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図 2" descr=""/>
          <p:cNvPicPr/>
          <p:nvPr/>
        </p:nvPicPr>
        <p:blipFill>
          <a:blip r:embed="rId1"/>
          <a:stretch/>
        </p:blipFill>
        <p:spPr>
          <a:xfrm>
            <a:off x="2583000" y="2538360"/>
            <a:ext cx="2484360" cy="1657440"/>
          </a:xfrm>
          <a:prstGeom prst="rect">
            <a:avLst/>
          </a:prstGeom>
          <a:ln w="0">
            <a:noFill/>
          </a:ln>
        </p:spPr>
      </p:pic>
      <p:sp>
        <p:nvSpPr>
          <p:cNvPr id="57" name="Oval 13"/>
          <p:cNvSpPr/>
          <p:nvPr/>
        </p:nvSpPr>
        <p:spPr>
          <a:xfrm>
            <a:off x="2239920" y="8412120"/>
            <a:ext cx="68580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日付プレースホルダ 1"/>
          <p:cNvSpPr/>
          <p:nvPr/>
        </p:nvSpPr>
        <p:spPr>
          <a:xfrm>
            <a:off x="514440" y="8737560"/>
            <a:ext cx="1428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1187280"/>
            <a:ext cx="6858000" cy="0"/>
          </a:xfrm>
          <a:prstGeom prst="line">
            <a:avLst/>
          </a:prstGeom>
          <a:ln w="19080">
            <a:solidFill>
              <a:srgbClr val="b4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89000" y="324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0" y="8748720"/>
            <a:ext cx="6858000" cy="0"/>
          </a:xfrm>
          <a:prstGeom prst="line">
            <a:avLst/>
          </a:prstGeom>
          <a:ln w="57240">
            <a:solidFill>
              <a:srgbClr val="8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スライド番号プレースホルダ 42"/>
          <p:cNvSpPr/>
          <p:nvPr/>
        </p:nvSpPr>
        <p:spPr>
          <a:xfrm>
            <a:off x="5229360" y="864072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4C8D-24AD-4E9E-A9C0-9DD283075A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フッター プレースホルダ 4"/>
          <p:cNvSpPr/>
          <p:nvPr/>
        </p:nvSpPr>
        <p:spPr>
          <a:xfrm>
            <a:off x="1917720" y="8737560"/>
            <a:ext cx="3527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004-2014 Syukuhaku Yoyaku Keiei  Kenkyujo Co.,Ltd All Right Rese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1"/>
          <p:cNvSpPr/>
          <p:nvPr/>
        </p:nvSpPr>
        <p:spPr>
          <a:xfrm>
            <a:off x="4938480" y="684360"/>
            <a:ext cx="12992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２０１４年　６月　２７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株式会社宿泊予約経営研究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53"/>
          <p:cNvSpPr/>
          <p:nvPr/>
        </p:nvSpPr>
        <p:spPr>
          <a:xfrm>
            <a:off x="333360" y="7780320"/>
            <a:ext cx="6014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取材お申し込み・問合せ先　：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株式会社宿泊予約経営研究所　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日高（ひだか）・平川（ひらかわ）・森本（もりもと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ttp://www.yadoken.net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〒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0-812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神奈川県横浜市西区みなとみらい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-2-1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横浜ランドマークタワー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Ｔｅｌ　：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5-227-6505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Ｆａｘ　：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5-227-6507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@yadoken.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54"/>
          <p:cNvSpPr/>
          <p:nvPr/>
        </p:nvSpPr>
        <p:spPr>
          <a:xfrm>
            <a:off x="365040" y="1343160"/>
            <a:ext cx="6056280" cy="916920"/>
          </a:xfrm>
          <a:prstGeom prst="rect">
            <a:avLst/>
          </a:prstGeom>
          <a:solidFill>
            <a:srgbClr val="ffccff"/>
          </a:solidFill>
          <a:ln w="60480">
            <a:solidFill>
              <a:srgbClr val="ffcc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開催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変えよう日本の宿屋を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基調講演やワークショップに、全国から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名が参加！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0"/>
          <p:cNvSpPr/>
          <p:nvPr/>
        </p:nvSpPr>
        <p:spPr>
          <a:xfrm>
            <a:off x="692280" y="17928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ＮＥＷＳ　ＲＥＬＥＡＳＥ　</a:t>
            </a:r>
            <a:r>
              <a:rPr b="0" lang="en-US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3"/>
          <p:cNvSpPr/>
          <p:nvPr/>
        </p:nvSpPr>
        <p:spPr>
          <a:xfrm>
            <a:off x="1968480" y="4295880"/>
            <a:ext cx="2919600" cy="459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会場の雰囲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図 1" descr=""/>
          <p:cNvPicPr/>
          <p:nvPr/>
        </p:nvPicPr>
        <p:blipFill>
          <a:blip r:embed="rId3"/>
          <a:stretch/>
        </p:blipFill>
        <p:spPr>
          <a:xfrm>
            <a:off x="4206960" y="2540160"/>
            <a:ext cx="2476440" cy="1650960"/>
          </a:xfrm>
          <a:prstGeom prst="rect">
            <a:avLst/>
          </a:prstGeom>
          <a:ln w="0">
            <a:noFill/>
          </a:ln>
        </p:spPr>
      </p:pic>
      <p:pic>
        <p:nvPicPr>
          <p:cNvPr id="70" name="図 5" descr=""/>
          <p:cNvPicPr/>
          <p:nvPr/>
        </p:nvPicPr>
        <p:blipFill>
          <a:blip r:embed="rId4"/>
          <a:stretch/>
        </p:blipFill>
        <p:spPr>
          <a:xfrm>
            <a:off x="277920" y="2543040"/>
            <a:ext cx="2327040" cy="1662120"/>
          </a:xfrm>
          <a:prstGeom prst="rect">
            <a:avLst/>
          </a:prstGeom>
          <a:ln w="0">
            <a:noFill/>
          </a:ln>
        </p:spPr>
      </p:pic>
      <p:pic>
        <p:nvPicPr>
          <p:cNvPr id="71" name="図 6" descr=""/>
          <p:cNvPicPr/>
          <p:nvPr/>
        </p:nvPicPr>
        <p:blipFill>
          <a:blip r:embed="rId5"/>
          <a:stretch/>
        </p:blipFill>
        <p:spPr>
          <a:xfrm>
            <a:off x="2533680" y="6226200"/>
            <a:ext cx="1967040" cy="1390680"/>
          </a:xfrm>
          <a:prstGeom prst="rect">
            <a:avLst/>
          </a:prstGeom>
          <a:ln w="0">
            <a:noFill/>
          </a:ln>
        </p:spPr>
      </p:pic>
      <p:pic>
        <p:nvPicPr>
          <p:cNvPr id="72" name="図 3" descr=""/>
          <p:cNvPicPr/>
          <p:nvPr/>
        </p:nvPicPr>
        <p:blipFill>
          <a:blip r:embed="rId6"/>
          <a:stretch/>
        </p:blipFill>
        <p:spPr>
          <a:xfrm>
            <a:off x="4676760" y="6245280"/>
            <a:ext cx="192096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図 7" descr=""/>
          <p:cNvPicPr/>
          <p:nvPr/>
        </p:nvPicPr>
        <p:blipFill>
          <a:blip r:embed="rId7"/>
          <a:stretch/>
        </p:blipFill>
        <p:spPr>
          <a:xfrm>
            <a:off x="2533680" y="4836960"/>
            <a:ext cx="1967040" cy="1320840"/>
          </a:xfrm>
          <a:prstGeom prst="rect">
            <a:avLst/>
          </a:prstGeom>
          <a:ln w="0">
            <a:noFill/>
          </a:ln>
        </p:spPr>
      </p:pic>
      <p:pic>
        <p:nvPicPr>
          <p:cNvPr id="74" name="図 1" descr=""/>
          <p:cNvPicPr/>
          <p:nvPr/>
        </p:nvPicPr>
        <p:blipFill>
          <a:blip r:embed="rId8"/>
          <a:stretch/>
        </p:blipFill>
        <p:spPr>
          <a:xfrm>
            <a:off x="338040" y="4836960"/>
            <a:ext cx="2055960" cy="1328760"/>
          </a:xfrm>
          <a:prstGeom prst="rect">
            <a:avLst/>
          </a:prstGeom>
          <a:ln w="0">
            <a:noFill/>
          </a:ln>
        </p:spPr>
      </p:pic>
      <p:pic>
        <p:nvPicPr>
          <p:cNvPr id="75" name="図 3" descr=""/>
          <p:cNvPicPr/>
          <p:nvPr/>
        </p:nvPicPr>
        <p:blipFill>
          <a:blip r:embed="rId9"/>
          <a:stretch/>
        </p:blipFill>
        <p:spPr>
          <a:xfrm>
            <a:off x="333360" y="6226200"/>
            <a:ext cx="2049480" cy="1390680"/>
          </a:xfrm>
          <a:prstGeom prst="rect">
            <a:avLst/>
          </a:prstGeom>
          <a:ln w="0">
            <a:noFill/>
          </a:ln>
        </p:spPr>
      </p:pic>
      <p:pic>
        <p:nvPicPr>
          <p:cNvPr id="76" name="図 1" descr=""/>
          <p:cNvPicPr/>
          <p:nvPr/>
        </p:nvPicPr>
        <p:blipFill>
          <a:blip r:embed="rId10"/>
          <a:stretch/>
        </p:blipFill>
        <p:spPr>
          <a:xfrm>
            <a:off x="4676760" y="4826160"/>
            <a:ext cx="192096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23:46:44Z</dcterms:created>
  <dc:creator>YK_Member</dc:creator>
  <dc:description/>
  <dc:language>en-US</dc:language>
  <cp:lastModifiedBy>平川 哲也</cp:lastModifiedBy>
  <cp:lastPrinted>2014-06-27T01:40:04Z</cp:lastPrinted>
  <dcterms:modified xsi:type="dcterms:W3CDTF">2014-06-27T02:11:07Z</dcterms:modified>
  <cp:revision>387</cp:revision>
  <dc:subject/>
  <dc:title>スライド 1</dc:title>
</cp:coreProperties>
</file>