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E35-55F7-4A5C-A825-E53CB962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578F-B6E6-439B-A3EB-37A53C4E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A445-0CCA-4503-AC0D-8131713C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A61-C2B3-4968-9AAF-D49AF229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B5CD-BE7D-4DF4-BF5B-8FBB877C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3D7F-2F81-4F8D-8087-11202BA2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E80E-010A-4E72-971A-D0A83920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2890-D0B5-49A0-BF0A-77E9128F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53FA-E159-4762-8F07-06FAFC02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8A0B-4351-49EA-8B53-6CB5AA42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EC72-EC58-469C-82BB-4F3DD337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C3D-50CB-4339-AF68-11558CC5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ADB9-5EA4-4375-A686-45CC56EE5075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75640" cy="9180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84640" y="-181080"/>
            <a:ext cx="3600360" cy="3168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85760" y="250920"/>
            <a:ext cx="2955960" cy="19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ＭＳ Ｐゴシック"/>
              </a:rPr>
              <a:t>夏季限定！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ＭＳ Ｐゴシック"/>
              </a:rPr>
              <a:t>個包装入　大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ＭＳ Ｐゴシック"/>
              </a:rPr>
              <a:t>オリゴ糖しお飴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ＭＳ Ｐゴシック"/>
              <a:ea typeface="ＭＳ Ｐゴシック"/>
            </a:endParaRPr>
          </a:p>
        </p:txBody>
      </p:sp>
      <p:sp>
        <p:nvSpPr>
          <p:cNvPr id="44" name=""/>
          <p:cNvSpPr/>
          <p:nvPr/>
        </p:nvSpPr>
        <p:spPr>
          <a:xfrm>
            <a:off x="189000" y="863928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群栄化学工業株式会社 　 事業企画管理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ｔｏ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）　群馬県高崎市宿大類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ＴＥＬ：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120-41- 0586 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ＡＸ：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120-17-0539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44056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おなかデトックス専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8469360"/>
            <a:ext cx="403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おなかデトックス専科ホームページ　ｈ</a:t>
            </a: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ttp://www.sweet-science.j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60280" y="2411280"/>
            <a:ext cx="2184480" cy="3168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03640" y="2916360"/>
            <a:ext cx="34448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熱中症は、夏の強い日射しの下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激しい運動や作業をする時だけでなく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身体が暑さに慣れない梅雨明けの時期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高温多湿の室内で過ごしている時にも危険が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797360" y="3994200"/>
            <a:ext cx="1793880" cy="1873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55840" y="7453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17160" y="7796160"/>
            <a:ext cx="363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73640" y="7783560"/>
            <a:ext cx="371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13000" y="7451640"/>
            <a:ext cx="1584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ｹｰ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袋入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97360" y="7451640"/>
            <a:ext cx="18763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9000" y="7451640"/>
            <a:ext cx="30384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9000" y="6372360"/>
            <a:ext cx="3744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会社名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9000" y="7020000"/>
            <a:ext cx="6480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ご住所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　　　　　　　　　　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33720" y="6372360"/>
            <a:ext cx="2737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お電話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3280" y="7080120"/>
            <a:ext cx="36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13000" y="6732720"/>
            <a:ext cx="172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希望納期：　　　　月　　　　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（注文日よ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日後から指定可能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9000" y="6732720"/>
            <a:ext cx="3039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部署・ご担当者様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9000" y="7475400"/>
            <a:ext cx="304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オリゴ糖で作ったしお飴大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ｇ入り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ｇ粒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71880" y="77835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24360" y="742320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84960" y="77835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43480" y="6732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05000" y="889308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ケース以上のご注文で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送料無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!!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ｹｰｽ未満の場合、送料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40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円になります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4600" y="8964720"/>
            <a:ext cx="149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有効期限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月末日ま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1640" y="557532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原材料名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　オリゴ糖･砂糖・食塩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食塩相当量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　約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14mg/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565360" y="4788000"/>
            <a:ext cx="2087280" cy="1079280"/>
            <a:chOff x="2565360" y="4788000"/>
            <a:chExt cx="2087280" cy="1079280"/>
          </a:xfrm>
        </p:grpSpPr>
        <p:sp>
          <p:nvSpPr>
            <p:cNvPr id="71" name=""/>
            <p:cNvSpPr/>
            <p:nvPr/>
          </p:nvSpPr>
          <p:spPr>
            <a:xfrm>
              <a:off x="2565360" y="4788000"/>
              <a:ext cx="2087280" cy="107928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65360" y="4819320"/>
              <a:ext cx="208728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3399"/>
                  </a:solidFill>
                  <a:latin typeface="Arial"/>
                </a:rPr>
                <a:t>メーカー希望小売価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Arial"/>
                </a:rPr>
                <a:t>1,080</a:t>
              </a:r>
              <a:r>
                <a:rPr b="1" lang="zh-CN" sz="1000" spc="-1" strike="noStrike">
                  <a:solidFill>
                    <a:srgbClr val="003399"/>
                  </a:solidFill>
                  <a:latin typeface="Arial"/>
                </a:rPr>
                <a:t>円（税込）のところ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HGP創英角ﾎﾟｯﾌﾟ体"/>
                  <a:ea typeface="HGP創英角ﾎﾟｯﾌﾟ体"/>
                </a:rPr>
                <a:t>648</a:t>
              </a:r>
              <a:r>
                <a:rPr b="1" lang="zh-CN" sz="2800" spc="-1" strike="noStrike">
                  <a:solidFill>
                    <a:srgbClr val="ff0000"/>
                  </a:solidFill>
                  <a:latin typeface="HGP創英角ﾎﾟｯﾌﾟ体"/>
                  <a:ea typeface="HGP創英角ﾎﾟｯﾌﾟ体"/>
                </a:rPr>
                <a:t>円</a:t>
              </a:r>
              <a:r>
                <a:rPr b="1" lang="en-US" sz="2800" spc="-1" strike="noStrike">
                  <a:solidFill>
                    <a:srgbClr val="ff0000"/>
                  </a:solidFill>
                  <a:latin typeface="HGP創英角ﾎﾟｯﾌﾟ体"/>
                  <a:ea typeface="HGP創英角ﾎﾟｯﾌﾟ体"/>
                </a:rPr>
                <a:t>/</a:t>
              </a:r>
              <a:r>
                <a:rPr b="1" lang="zh-CN" sz="2800" spc="-1" strike="noStrike">
                  <a:solidFill>
                    <a:srgbClr val="ff0000"/>
                  </a:solidFill>
                  <a:latin typeface="HGP創英角ﾎﾟｯﾌﾟ体"/>
                  <a:ea typeface="HGP創英角ﾎﾟｯﾌﾟ体"/>
                </a:rPr>
                <a:t>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Arial"/>
                </a:rPr>
                <a:t>　　　　　　　　　（税込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492280" y="3913200"/>
            <a:ext cx="234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cc"/>
                </a:solidFill>
                <a:latin typeface="HGP創英角ﾎﾟｯﾌﾟ体"/>
                <a:ea typeface="HGP創英角ﾎﾟｯﾌﾟ体"/>
              </a:rPr>
              <a:t>＊オリゴ糖しお飴</a:t>
            </a:r>
            <a:r>
              <a:rPr b="0" lang="ja-JP" sz="1400" spc="-1" strike="noStrike">
                <a:solidFill>
                  <a:srgbClr val="0033cc"/>
                </a:solidFill>
                <a:latin typeface="HGP創英角ﾎﾟｯﾌﾟ体"/>
                <a:ea typeface="HGP創英角ﾎﾟｯﾌﾟ体"/>
              </a:rPr>
              <a:t>1</a:t>
            </a:r>
            <a:r>
              <a:rPr b="0" lang="ja-JP" sz="1400" spc="-1" strike="noStrike">
                <a:solidFill>
                  <a:srgbClr val="0033cc"/>
                </a:solidFill>
                <a:latin typeface="HGP創英角ﾎﾟｯﾌﾟ体"/>
                <a:ea typeface="HGP創英角ﾎﾟｯﾌﾟ体"/>
              </a:rPr>
              <a:t>粒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cc"/>
                </a:solidFill>
                <a:latin typeface="HGP創英角ﾎﾟｯﾌﾟ体"/>
                <a:ea typeface="HGP創英角ﾎﾟｯﾌﾟ体"/>
              </a:rPr>
              <a:t>　　対し、水</a:t>
            </a:r>
            <a:r>
              <a:rPr b="0" lang="ja-JP" sz="1400" spc="-1" strike="noStrike">
                <a:solidFill>
                  <a:srgbClr val="0033cc"/>
                </a:solidFill>
                <a:latin typeface="HGP創英角ﾎﾟｯﾌﾟ体"/>
                <a:ea typeface="HGP創英角ﾎﾟｯﾌﾟ体"/>
              </a:rPr>
              <a:t>100</a:t>
            </a:r>
            <a:r>
              <a:rPr b="0" lang="ja-JP" sz="1400" spc="-1" strike="noStrike">
                <a:solidFill>
                  <a:srgbClr val="0033cc"/>
                </a:solidFill>
                <a:latin typeface="HGP創英角ﾎﾟｯﾌﾟ体"/>
                <a:ea typeface="HGP創英角ﾎﾟｯﾌﾟ体"/>
              </a:rPr>
              <a:t>ｍｌの摂取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cc"/>
                </a:solidFill>
                <a:latin typeface="HGP創英角ﾎﾟｯﾌﾟ体"/>
                <a:ea typeface="HGP創英角ﾎﾟｯﾌﾟ体"/>
              </a:rPr>
              <a:t>　　予防の目安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9000" y="6012000"/>
            <a:ext cx="648000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ご注文承り書　</a:t>
            </a:r>
            <a:r>
              <a:rPr b="0" lang="en-US" sz="2400" spc="-1" strike="noStrike">
                <a:solidFill>
                  <a:srgbClr val="cc0000"/>
                </a:solidFill>
                <a:latin typeface="HG創英角ﾎﾟｯﾌﾟ体"/>
                <a:ea typeface="HG創英角ﾎﾟｯﾌﾟ体"/>
              </a:rPr>
              <a:t>FAX:0120-17-05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41720" y="6732720"/>
            <a:ext cx="172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お届け時間帯：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○をつけてくださ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午前中　　　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-14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6-18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時　　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-20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時　　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-21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000" y="8028000"/>
            <a:ext cx="6480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お支払い方法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どちらか○をつけてください　※初回のご注文は代引きのみの支払い方法となります。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　　　（　　　　）代金引換（代引手数料弊社負担）　　　　　　　（　　　　）コンビニ決済（２回目以降のご注文のみ選択可能）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01:49:18Z</dcterms:created>
  <dc:creator>k-wada</dc:creator>
  <dc:description/>
  <dc:language>en-US</dc:language>
  <cp:lastModifiedBy>ka-kobayashi</cp:lastModifiedBy>
  <dcterms:modified xsi:type="dcterms:W3CDTF">2014-07-09T04:08:23Z</dcterms:modified>
  <cp:revision>17</cp:revision>
  <dc:subject/>
  <dc:title>スライド 1</dc:title>
</cp:coreProperties>
</file>