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29163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CF2-C3BF-49AD-BC96-DC41DC50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6904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2A4-96D5-4933-BD43-12DD7DA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004-0E35-4370-B16E-70ABCBDE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459-BFE8-46DA-BA94-930D4475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F34-ED50-4E65-9256-5357C8B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E1C-85E2-445B-AEFC-6C6555F0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5F5-354D-40E7-AD95-C02856B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56B-62D1-4057-AD03-BE2EF669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7296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F79-7AE5-478F-B688-BF0C0D7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4EF-B6FC-4ADC-8382-D0DFA49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D72-52A8-4114-A63C-79474CF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BBF-B82B-40D4-AD40-F4A3159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59280"/>
            <a:ext cx="16002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59280"/>
            <a:ext cx="21715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59280"/>
            <a:ext cx="16002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412-EAF2-4E00-9B86-DFB64454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618000" y="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株式会社Ｒバ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　　　　　　　　　２０１４年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12760" y="3543480"/>
            <a:ext cx="650556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株式会社Ｒバンク（本社：東京都渋谷区渋谷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3-8-12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／代表：藤田将友）は、シェアハウス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含めた賃貸住宅の提案を創業以来、多数のプロジェクトにて行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企画のみではなく、募集管理まで責任をもって行うことでオーナーの信頼を得る努力をしてきました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お陰様で、シェアハウス、一般賃貸住宅を併せて首都圏に約１０００部屋の住宅や事務所を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させて頂い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昨今では、弊社の企画力のみならず、女性スタッフのみで構成された管理チームのきめ細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サービスや充実したサポートサービスから不動産管理のみを依頼されるケースも多く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弊社では、「人とひとと建ものの」よりよい関係を築くというコンセプトのもと、少しでも多くの不動産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オーナーよりお預かりし、多くの方に快適に過ごせる空間を提供していきたいと考えており、か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年の間に管理数を倍増させて、更なる管理体制の強化を図っていきたいと思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■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R-with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をコンセプトに弊社で行っている賃貸企画や、賃貸管理のサービス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事例について、紹介させて頂い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として行っている管理物件でのイベント企画や、最新の賃貸企画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ケーススタディー等、一般の不動産管理サイトにはない、コンテンツも充実しておりますの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不動産オーナー以外の方が見ても、楽しめる内容のサイトに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なかなか、有効に活かせない不動産をお持ちのオーナーや、募集が上手く進まず困っているオーナ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や老朽化した建物、くせのある土地を活用したいというオーナー等、あらゆるオーナーの「困りごと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に対応できる内容のサイトに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89000" y="8431200"/>
            <a:ext cx="655308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ニュースリリース内容・取材申込に関するお問合せ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　担当：鈴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東京都渋谷区渋谷３－８－１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2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渋谷第一生命ビル３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ＴＥＬ：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0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ＦＡＸ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1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mail:g-suzuki@r-bank.co.jp 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（水・木定休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177840" y="34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ＰＲＥＳＳ　ＲＥＬＥＡＳ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49720" y="62514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182520" y="453960"/>
            <a:ext cx="66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は、「人とひとと建ものの、橋渡し」をコンセプト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不動産オーナー向けの不動産管理運営サイト「</a:t>
            </a:r>
            <a:r>
              <a:rPr b="0" lang="en-US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R-with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」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致しましたので、ここにご報告させて頂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" descr=""/>
          <p:cNvPicPr/>
          <p:nvPr/>
        </p:nvPicPr>
        <p:blipFill>
          <a:blip r:embed="rId1"/>
          <a:srcRect l="0" t="0" r="0" b="26641"/>
          <a:stretch/>
        </p:blipFill>
        <p:spPr>
          <a:xfrm>
            <a:off x="404640" y="1432080"/>
            <a:ext cx="5759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3080" y="39600"/>
            <a:ext cx="650556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＜添付資料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１、ＷＥＢサイトの紹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http://r-with-house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２、プロジェクト紹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Ｒバンクが手掛けた再生事業、新築物件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シェアハウス等のご紹介を掲載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3080" y="8317080"/>
            <a:ext cx="3976560" cy="86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ニュースリリース内容・取材申込に関するお問合せ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　担当：鈴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東京都渋谷区渋谷３－８－１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2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渋谷第一生命ビル３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ＴＥＬ：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0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ＦＡＸ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1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mail:g-suzuki@r-bank.co.jp 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（水・木定休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4149720" y="8029440"/>
            <a:ext cx="23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4149720" y="62514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2" descr=""/>
          <p:cNvPicPr/>
          <p:nvPr/>
        </p:nvPicPr>
        <p:blipFill>
          <a:blip r:embed="rId1"/>
          <a:srcRect l="0" t="0" r="0" b="2211"/>
          <a:stretch/>
        </p:blipFill>
        <p:spPr>
          <a:xfrm>
            <a:off x="3465360" y="85680"/>
            <a:ext cx="322920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図 4" descr=""/>
          <p:cNvPicPr/>
          <p:nvPr/>
        </p:nvPicPr>
        <p:blipFill>
          <a:blip r:embed="rId2"/>
          <a:srcRect l="904" t="0" r="4140" b="0"/>
          <a:stretch/>
        </p:blipFill>
        <p:spPr>
          <a:xfrm>
            <a:off x="0" y="6388200"/>
            <a:ext cx="4076640" cy="1827000"/>
          </a:xfrm>
          <a:prstGeom prst="rect">
            <a:avLst/>
          </a:prstGeom>
          <a:ln w="0">
            <a:noFill/>
          </a:ln>
        </p:spPr>
      </p:pic>
      <p:pic>
        <p:nvPicPr>
          <p:cNvPr id="54" name="図 5" descr=""/>
          <p:cNvPicPr/>
          <p:nvPr/>
        </p:nvPicPr>
        <p:blipFill>
          <a:blip r:embed="rId3"/>
          <a:srcRect l="0" t="0" r="34960" b="0"/>
          <a:stretch/>
        </p:blipFill>
        <p:spPr>
          <a:xfrm>
            <a:off x="4129200" y="6434280"/>
            <a:ext cx="2684520" cy="2658960"/>
          </a:xfrm>
          <a:prstGeom prst="rect">
            <a:avLst/>
          </a:prstGeom>
          <a:ln w="0">
            <a:noFill/>
          </a:ln>
        </p:spPr>
      </p:pic>
      <p:pic>
        <p:nvPicPr>
          <p:cNvPr id="55" name="図 6" descr=""/>
          <p:cNvPicPr/>
          <p:nvPr/>
        </p:nvPicPr>
        <p:blipFill>
          <a:blip r:embed="rId4"/>
          <a:srcRect l="0" t="24484" r="21619" b="0"/>
          <a:stretch/>
        </p:blipFill>
        <p:spPr>
          <a:xfrm>
            <a:off x="3554280" y="3728880"/>
            <a:ext cx="3106800" cy="1667160"/>
          </a:xfrm>
          <a:prstGeom prst="rect">
            <a:avLst/>
          </a:prstGeom>
          <a:ln w="0">
            <a:noFill/>
          </a:ln>
        </p:spPr>
      </p:pic>
      <p:pic>
        <p:nvPicPr>
          <p:cNvPr id="56" name="図 7" descr=""/>
          <p:cNvPicPr/>
          <p:nvPr/>
        </p:nvPicPr>
        <p:blipFill>
          <a:blip r:embed="rId5"/>
          <a:srcRect l="0" t="0" r="0" b="3184"/>
          <a:stretch/>
        </p:blipFill>
        <p:spPr>
          <a:xfrm>
            <a:off x="0" y="2784600"/>
            <a:ext cx="6858000" cy="3603600"/>
          </a:xfrm>
          <a:prstGeom prst="rect">
            <a:avLst/>
          </a:prstGeom>
          <a:ln w="0">
            <a:noFill/>
          </a:ln>
        </p:spPr>
      </p:pic>
      <p:sp>
        <p:nvSpPr>
          <p:cNvPr id="57" name="テキスト ボックス 8"/>
          <p:cNvSpPr/>
          <p:nvPr/>
        </p:nvSpPr>
        <p:spPr>
          <a:xfrm>
            <a:off x="3371760" y="2319480"/>
            <a:ext cx="34164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では入居者様とのコミュニケーション、イベント企画などをご紹介して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04:23:17Z</dcterms:created>
  <dc:creator>CHIBA</dc:creator>
  <dc:description/>
  <dc:language>en-US</dc:language>
  <cp:lastModifiedBy>suzuki</cp:lastModifiedBy>
  <cp:lastPrinted>2014-12-02T03:23:51Z</cp:lastPrinted>
  <dcterms:modified xsi:type="dcterms:W3CDTF">2014-12-13T09:37:59Z</dcterms:modified>
  <cp:revision>138</cp:revision>
  <dc:subject/>
  <dc:title>スライド 1</dc:title>
</cp:coreProperties>
</file>