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21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2D6BCB-257D-44F8-89C8-CABE74025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B5F6A1-3C59-40C3-9263-DB4E529C90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212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8C4EF5-10D1-4B40-959E-C691E3622A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2120" cy="3700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FF8-C0AF-4406-9B7A-9029B80F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F97-2B59-42AE-A945-E6631BC3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53D-719F-4B3C-8443-DFDE2DE4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C72-A3C5-4CA5-BB12-79D989E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B32-882E-41CD-9315-B348F43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654-2119-44B2-8987-7E69E1F8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018-6996-4110-8ED6-59DC49D2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EDE-CD03-416B-AE07-BB2A001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01E-5543-4DF2-A663-694995E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CE5-6D1F-4DEB-B2C5-81E8E678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14C-8CB3-4F5E-B1A2-48DBFFCC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A97-C25F-4315-BC1F-A6EB9CA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3604-C96E-4E1F-8D1A-12111BB5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com-net.co.jp/" TargetMode="External"/><Relationship Id="rId2" Type="http://schemas.openxmlformats.org/officeDocument/2006/relationships/hyperlink" Target="mailto:sugiyama@gcom-net.co.jp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1182600" y="6224760"/>
            <a:ext cx="5081760" cy="3624120"/>
          </a:xfrm>
          <a:prstGeom prst="rect">
            <a:avLst/>
          </a:prstGeom>
          <a:ln w="0">
            <a:noFill/>
          </a:ln>
        </p:spPr>
      </p:pic>
      <p:sp>
        <p:nvSpPr>
          <p:cNvPr id="49" name="Line 51"/>
          <p:cNvSpPr/>
          <p:nvPr/>
        </p:nvSpPr>
        <p:spPr>
          <a:xfrm>
            <a:off x="14400" y="403200"/>
            <a:ext cx="6829200" cy="0"/>
          </a:xfrm>
          <a:prstGeom prst="line">
            <a:avLst/>
          </a:prstGeom>
          <a:ln w="38160">
            <a:solidFill>
              <a:srgbClr val="006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4723560" y="924480"/>
            <a:ext cx="1704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01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ジーコム　生活行動研究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g-com3"/>
          <p:cNvPicPr/>
          <p:nvPr/>
        </p:nvPicPr>
        <p:blipFill>
          <a:blip r:embed="rId2"/>
          <a:stretch/>
        </p:blipFill>
        <p:spPr>
          <a:xfrm>
            <a:off x="58680" y="9360"/>
            <a:ext cx="129384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正方形/長方形 1"/>
          <p:cNvSpPr/>
          <p:nvPr/>
        </p:nvSpPr>
        <p:spPr>
          <a:xfrm>
            <a:off x="1747800" y="5970600"/>
            <a:ext cx="337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■</a:t>
            </a: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インターネットでよく見る情報（複数回答＊インターネット接続層限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64"/>
          <p:cNvSpPr/>
          <p:nvPr/>
        </p:nvSpPr>
        <p:spPr>
          <a:xfrm>
            <a:off x="15840" y="1584360"/>
            <a:ext cx="682308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 ジーコムが福岡県居住者の「メディア接触」に関する調査結果を公開 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インターネットで最もよく見る情報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経済・ニュース」でおよそ７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277560" y="619560"/>
            <a:ext cx="82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報道関係者各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レスリリ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"/>
          <p:cNvSpPr/>
          <p:nvPr/>
        </p:nvSpPr>
        <p:spPr>
          <a:xfrm>
            <a:off x="4466520" y="-25560"/>
            <a:ext cx="242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2e"/>
                </a:solidFill>
                <a:latin typeface="Arial"/>
              </a:rPr>
              <a:t>Press Re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122400" y="3110040"/>
            <a:ext cx="6608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近くにわたり福岡・九州の市場動向を研究している株式会社ジーコム（本社：福岡県福岡市　代表取締役：村上隆英）は、このたび、福岡県居住者の「メディア接触」に対する意識や行動を調査しましたので、その結果をお知らせ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本調査では、弊社が組織する調査モニター「コムネット」を対象に、インターネットでよく見る情報や利用するサービス、ＳＮＳの利用状況等についてアンケートを行いました。その結果、インターネットでよく見る情報は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8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項目のうち「経済・ニュース」の割合が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67.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で最も高く、次いで「趣味関連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2.4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旅行・レジャー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.9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食品・料理・グルメ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.3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エンターテインメント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3.6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の順でした。年代別に見ると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以上では「経済・ニュース」の割合が最も高いのに対し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は「趣味関連」が最も高くなっています。また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以上は「旅行・レジャー」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は「エンターテインメント」の割合が他に比べて高くなっており、年代によって関心事が異なっている様子がうかが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4"/>
          <p:cNvSpPr/>
          <p:nvPr/>
        </p:nvSpPr>
        <p:spPr>
          <a:xfrm>
            <a:off x="3305160" y="9445680"/>
            <a:ext cx="419040" cy="179280"/>
          </a:xfrm>
          <a:prstGeom prst="rect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4"/>
          <p:cNvSpPr/>
          <p:nvPr/>
        </p:nvSpPr>
        <p:spPr>
          <a:xfrm>
            <a:off x="4140360" y="8913960"/>
            <a:ext cx="419040" cy="357120"/>
          </a:xfrm>
          <a:prstGeom prst="rect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8"/>
          <p:cNvSpPr/>
          <p:nvPr/>
        </p:nvSpPr>
        <p:spPr>
          <a:xfrm>
            <a:off x="162000" y="6028920"/>
            <a:ext cx="65307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社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会社名　　株式会社ジーコム 生活行動研究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代表者　　代表取締役 村上隆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設立　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89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所在地　　〒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12-0029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福岡県福岡市博多区古門戸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4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S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ンドビル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事業　　　マーケティングリサーチ及びマーケティング領域におけるコンサルテ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ＵＲＬ　　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ＭＳ ゴシック"/>
                <a:ea typeface="ＭＳ ゴシック"/>
                <a:hlinkClick r:id="rId1"/>
              </a:rPr>
              <a:t>http://www.gcom-net.co.j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162000" y="7741800"/>
            <a:ext cx="65307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件に関する問い合わせ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株式会社ジーコム（担当：杉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92-283-208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AX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92-262-6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-mail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ＭＳ ゴシック"/>
                <a:ea typeface="ＭＳ ゴシック"/>
                <a:hlinkClick r:id="rId2"/>
              </a:rPr>
              <a:t>sugiyama@gcom-net.co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査データの転載・引用等をご希望の方はお問い合わせ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162000" y="4639320"/>
            <a:ext cx="6530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調査の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方法　　インターネット調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対象　　福岡県在住の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歳以上の男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規模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時期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1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（金）～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（水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9360" y="9634680"/>
            <a:ext cx="686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九州の消費者を見つめて</a:t>
            </a:r>
            <a:r>
              <a:rPr b="0" lang="en-US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27</a:t>
            </a:r>
            <a:r>
              <a:rPr b="0" lang="ja-JP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年。ジーコムはマーケティングリサーチの専門会社です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>
            <a:off x="12600" y="9596520"/>
            <a:ext cx="6829560" cy="0"/>
          </a:xfrm>
          <a:prstGeom prst="line">
            <a:avLst/>
          </a:prstGeom>
          <a:ln w="38160">
            <a:solidFill>
              <a:srgbClr val="006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"/>
          <p:cNvSpPr/>
          <p:nvPr/>
        </p:nvSpPr>
        <p:spPr>
          <a:xfrm>
            <a:off x="212760" y="4983120"/>
            <a:ext cx="6429240" cy="9270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7"/>
          <p:cNvSpPr/>
          <p:nvPr/>
        </p:nvSpPr>
        <p:spPr>
          <a:xfrm>
            <a:off x="212760" y="6351480"/>
            <a:ext cx="6429240" cy="13464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212760" y="8064360"/>
            <a:ext cx="6429240" cy="13464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"/>
          <p:cNvSpPr/>
          <p:nvPr/>
        </p:nvSpPr>
        <p:spPr>
          <a:xfrm>
            <a:off x="703440" y="44280"/>
            <a:ext cx="24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■</a:t>
            </a: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ＳＮＳ利用状況（上位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2"/>
          <p:cNvSpPr/>
          <p:nvPr/>
        </p:nvSpPr>
        <p:spPr>
          <a:xfrm>
            <a:off x="3513240" y="436680"/>
            <a:ext cx="326052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また、ＳＮＳの利用状況について「毎日、何度も使っている」「一日に１度は使っている」「たまに使っている」を合計した利用率は「ＬＩＮＥ」で４割を超えていて、最も利用率の高い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では７割以上に及びます。２年前に実施した調査と比べると「ＬＩＮＥ」の利用率は大きく増加し、中でも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の増加幅が大きくなってい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調査報告書は全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ページ。プレスリリースシートに掲載されていない項目もございます。是非ご覧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04"/>
          <p:cNvSpPr/>
          <p:nvPr/>
        </p:nvSpPr>
        <p:spPr>
          <a:xfrm>
            <a:off x="65160" y="4083120"/>
            <a:ext cx="68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調査結果の詳細については、報告書をご覧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3"/>
          <a:stretch/>
        </p:blipFill>
        <p:spPr>
          <a:xfrm>
            <a:off x="314280" y="422280"/>
            <a:ext cx="3016440" cy="3490920"/>
          </a:xfrm>
          <a:prstGeom prst="rect">
            <a:avLst/>
          </a:prstGeom>
          <a:ln w="0">
            <a:noFill/>
          </a:ln>
        </p:spPr>
      </p:pic>
      <p:cxnSp>
        <p:nvCxnSpPr>
          <p:cNvPr id="71" name="直線矢印コネクタ 4"/>
          <p:cNvCxnSpPr/>
          <p:nvPr/>
        </p:nvCxnSpPr>
        <p:spPr>
          <a:xfrm flipV="1">
            <a:off x="1785600" y="3145680"/>
            <a:ext cx="1080" cy="183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1:45:12Z</dcterms:created>
  <dc:creator>g-com</dc:creator>
  <dc:description/>
  <dc:language>en-US</dc:language>
  <cp:lastModifiedBy>morisue</cp:lastModifiedBy>
  <cp:lastPrinted>2015-06-01T02:40:51Z</cp:lastPrinted>
  <dcterms:modified xsi:type="dcterms:W3CDTF">2015-06-01T02:49:41Z</dcterms:modified>
  <cp:revision>362</cp:revision>
  <dc:subject/>
  <dc:title>スライド 1</dc:title>
</cp:coreProperties>
</file>